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7.png" ContentType="image/png"/>
  <Override PartName="/ppt/media/image24.jpeg" ContentType="image/jpeg"/>
  <Override PartName="/ppt/media/image19.jpeg" ContentType="image/jpeg"/>
  <Override PartName="/ppt/media/image23.png" ContentType="image/png"/>
  <Override PartName="/ppt/media/image21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CACC-0CC8-4220-823C-36C965721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AEF8-A8AB-4F6B-83BB-DE61DB7C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CF85-8EE5-4763-9D57-29AEA39E7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B259-E69D-4760-BA11-B06BCB290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D494-213E-47B3-AAA3-9FDC85B6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78DF-9042-4FF8-9E24-EDAF2BAC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D24F-1CFE-4869-BDD8-081A8990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6D53-4711-4994-BCEF-64D1C8AA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69A9-4F17-4E12-A19D-C1C2DA33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DC0B-4AB3-4DDA-A2C5-C6CA1F38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7BA7-39F2-4B7A-949C-C526D20B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9DAB-6125-4628-AF11-9081A505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8C6F-33CE-4B82-8DC9-497CA208B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52480" y="304920"/>
            <a:ext cx="55720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a Casa De Mis Suenos</a:t>
            </a:r>
            <a:endParaRPr b="0" lang="en-US" sz="4800" spc="1" strike="noStrike">
              <a:ln w="19080">
                <a:solidFill>
                  <a:srgbClr val="ff00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5475240" y="1865160"/>
            <a:ext cx="3527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Mi casa esta localizada en Mi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Tie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Siete dormito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Cuarto b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Coc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Lujoso com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La piscina den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No tiene yar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os salas de teli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Sala de jue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Cuarto de 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Por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Terraz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colump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5638680"/>
            <a:ext cx="35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37 Pine Hill Road, Miami 33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638680" y="3808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04920" y="3657600"/>
            <a:ext cx="3352680" cy="2955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56160" y="441972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Es el cuarto de las muchachas, muy bonita y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52480" y="533520"/>
            <a:ext cx="5410440" cy="3617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55760" y="4836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10880" y="4952880"/>
            <a:ext cx="511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Es el dormitorio principal es muy bonita y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34120" y="533520"/>
            <a:ext cx="3809880" cy="2590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334120" y="3505320"/>
            <a:ext cx="3624120" cy="2665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80880" y="3352680"/>
            <a:ext cx="3934080" cy="2946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937040" y="4303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20" y="380880"/>
            <a:ext cx="473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el cuartos de los muchachos, muy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4191120" cy="2992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800600" y="3657600"/>
            <a:ext cx="3786120" cy="3029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029200" y="2971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 Unicode MS"/>
              </a:rPr>
              <a:t>El es bano de grande y luj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304920" y="350532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4648320" y="380880"/>
            <a:ext cx="417168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5334120" cy="3473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4229280" cy="3137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08400" y="646200"/>
            <a:ext cx="31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La cocine es grande y lujo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20" y="5029200"/>
            <a:ext cx="44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La comedor es lujoso y un poco penqu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447920" y="304920"/>
            <a:ext cx="6248160" cy="4109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05440" y="5410080"/>
            <a:ext cx="422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La piscina dentro el grande y </a:t>
            </a:r>
            <a:r>
              <a:rPr b="0" lang="es-ES" sz="1800" spc="-1" strike="noStrike">
                <a:solidFill>
                  <a:srgbClr val="9900ff"/>
                </a:solidFill>
                <a:latin typeface="Arial"/>
              </a:rPr>
              <a:t>diversión</a:t>
            </a: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3809880" cy="4000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349160" y="2133720"/>
            <a:ext cx="38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Sala de television es grande y luj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657600" y="3505320"/>
            <a:ext cx="4705200" cy="31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5334120" cy="3467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09600" y="2971800"/>
            <a:ext cx="34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Sala de juegos grande y bo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162320" y="3448080"/>
            <a:ext cx="4981680" cy="3409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348440" y="3581280"/>
            <a:ext cx="332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Sala de juegos grande y bo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3:46:58Z</dcterms:created>
  <dc:creator>capistrancad</dc:creator>
  <dc:description/>
  <dc:language>en-US</dc:language>
  <cp:lastModifiedBy>capistrancad</cp:lastModifiedBy>
  <dcterms:modified xsi:type="dcterms:W3CDTF">2012-05-22T17:21:43Z</dcterms:modified>
  <cp:revision>6</cp:revision>
  <dc:subject/>
  <dc:title>Slide 1</dc:title>
</cp:coreProperties>
</file>